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052-3A40-4128-8122-1C524570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C7D-08C5-4B7B-AB77-F57B6DAF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F53-F278-40D0-8EFB-02CBDA08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31D3-1957-4887-92D2-EB10D2FF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1DC-D132-475B-BE37-371071B5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984-C60B-47B1-8E3D-4DA703C7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7F7-CCD5-4653-A55D-11054F27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A77-00D2-4685-ACE6-836D9B6F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B0C-1048-40DD-B270-8B2E38E1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7CE-E793-4F99-9769-DAC91299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8FA-4470-49E1-891A-DEC9F199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9F1C-C500-4E19-8EC8-E12E49B3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1BE2-DACD-4570-9563-77B2293A7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you carry God’s Wisd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peak forth God’s W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embody God’s Pres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ver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9:47Z</dcterms:created>
  <dc:creator>Anon Anon</dc:creator>
  <dc:description/>
  <dc:language>en-US</dc:language>
  <cp:lastModifiedBy>Anon Anon</cp:lastModifiedBy>
  <dcterms:modified xsi:type="dcterms:W3CDTF">2005-08-09T05:27:25Z</dcterms:modified>
  <cp:revision>7</cp:revision>
  <dc:subject/>
  <dc:title>PowerPoint Presentation</dc:title>
</cp:coreProperties>
</file>